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063-F3EA-4CAE-9796-65084CAF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045-967C-434F-8EC3-8A46B052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F9E-D7DA-423C-A67D-2F56BEE0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6AA-21BC-497D-8ACA-3644E3AF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589-970B-47AB-BBF7-C2D6C2A0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8A9-932A-4359-87F2-A088C94A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51AF-D0D6-40D2-9AB4-3A145950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5F7-FFE6-4815-8EB0-AE5561AB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1FD-7EE5-4B63-AE8E-47D8E125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8F7-35F7-40E5-AA8F-22B99CDF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84C-20EB-4C99-AB05-15531218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B3D-8004-4B7D-8891-3EB27D60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F1A1-9B1F-4D78-957F-5098E11A02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cientific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my Jo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hypo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the hypo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th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4191120" cy="542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ricity is off in my 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2327400"/>
            <a:ext cx="4876920" cy="39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ther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 storm that knocked the pow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mom pay the light bi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levision and computer overloaded a circ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2362320" cy="121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5105520"/>
            <a:ext cx="2743200" cy="161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943600" y="3276720"/>
            <a:ext cx="18288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e a Hypothe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levision and game overloaded a circ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the Hypothe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looked outside the sun was sh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opened the door to my room and saw other electrical appliances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hecked the circuit box to see if a circuit was off, and it w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1897200">
            <a:off x="6857640" y="1828440"/>
            <a:ext cx="1600200" cy="126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4952880"/>
            <a:ext cx="213336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urned the circuit on, and the electricity came on in my 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urned the television and computer on again and the electricity went off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ent turned on the circuit again. This time I only turn the television on, and the electricity stayed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I turned the television off and turned the computer on, and again the electricity stayed 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can not turn the television and computer at the same time, for it will overload the circ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4191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21:05:23Z</dcterms:created>
  <dc:creator> </dc:creator>
  <dc:description/>
  <dc:language>en-US</dc:language>
  <cp:lastModifiedBy> </cp:lastModifiedBy>
  <dcterms:modified xsi:type="dcterms:W3CDTF">2010-07-27T03:25:04Z</dcterms:modified>
  <cp:revision>4</cp:revision>
  <dc:subject/>
  <dc:title>The Scientific Method</dc:title>
</cp:coreProperties>
</file>